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01C-8486-4D58-874D-D69CD687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E83-CFC9-4095-B85F-3FBAD76A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8D8B-AD9D-40EA-BBCB-0AAC1AD6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492-6218-4AC8-8672-8D30B267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93DA-4AFC-4067-8C97-90AC694F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2A1-042E-49BF-A4B9-937E5354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FA4-219A-4BD4-8608-4B2CBCDA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1E7B-6173-4FC9-B61E-5731468F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C518-A632-4C69-BD8C-85D679F4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A184-634E-4E45-83EC-72853096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195-6C75-4198-A458-FCEDAC00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86F-3686-45A6-B986-B95B9AD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EC71-F6B9-4AD8-96BB-EAE4565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DFE0-F85D-43C7-B327-FA8D024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AFD3-23CF-4623-A634-97BAFA8A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0FEA-CBCA-49EF-B1AE-C57132E3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E4EB-DFE5-4D6E-AE6A-3F2829F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4E489-9ABF-4541-956C-94686EF8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88B9-6A06-4312-977E-991847F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6A70-C2A9-466D-8E0A-78613556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6F3D-DE0A-4C96-B0FC-A896BA48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2ECF6-8A00-4450-BFB1-C1B05C01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C8E-B1B3-41D2-88D1-60CF8C8A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5B3B-448B-4E4F-AEC3-115CD113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FCF6-7A8B-4747-B233-325F1A0E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A596-331C-4862-A683-A454137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B1478-CD17-451C-8696-EDF6500B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3ED1-6E90-4EED-A035-2E80E662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6A90-36B0-4EA2-B23A-66192C79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7375-A860-489B-A493-DE0F9360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35F55-96C3-4EAC-BBA6-739F9745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6C5B-9F29-44CD-8260-17E456D4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CA1F2-4E02-46C1-BBAC-86A57488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1B9A-97F2-4373-B7ED-22F5311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0534-A49A-4A0A-8502-9809824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D67F-E9A0-4442-8DC6-FB626B0A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9C030-4910-49FA-BF85-DEC79124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85D9C-97A8-4FCE-957C-54A2AAC3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23FD-744F-4BBE-BEC7-4DCE3BF1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AEFE-76F6-492C-8F04-8B926569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B70F-298F-4863-9CDF-80E82094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FEF9-A83D-460C-A60B-7A3F0B6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9392E-4C75-4E11-AE1A-F3508CC1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3C331-DB3F-428B-941F-EACBED2D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93BE-66DC-4DBD-903B-DAF4356A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80214-E492-44EC-AAF3-47A2512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3C6E-6674-4C2C-B938-0C223971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B649D-3448-4F37-893E-F7D05C89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9FB1D-BB46-4697-82FE-58AE0ABD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442C7-7338-4789-910F-7DF9C27E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5A3E7-4BD0-4336-AB36-5FFD31F5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FC2F-AE6C-4F51-B90F-E7E79B63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B83A-DB73-4AEC-B5EA-1C1279F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A6D4C-6ECC-485B-BC25-6A08B64E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4887-92EB-4BA4-9C05-6B784F53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157-752A-4CAF-BBE7-E40D71F7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32391-D3ED-4D86-A010-036BFFD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BC2-76BD-4CCB-A69E-E34C9E93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620-7957-4F29-86FE-266E2F0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7E6-3CA4-4EFA-AC1D-8397E7D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4389-EE5B-48ED-821F-39EAA6E7E92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F318-65EF-4109-8B17-3A3F410454F4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727D-576D-465A-91B7-6CA65A1856B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752-0105-48B1-924F-F462A9F35A2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9A5E-CB5B-4E65-B8C3-743DC65CC70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210360" cy="328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8d3e"/>
                </a:solidFill>
                <a:latin typeface="Verdana"/>
              </a:rPr>
              <a:t>Weathering, Erosion and Deposition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5998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ype of weathering do each example caus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The roots of a plant. 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An animal scratching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Oxygen.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Water freezing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Acid rain.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Wind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323232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3232"/>
                </a:solidFill>
                <a:latin typeface="Verdana"/>
              </a:rPr>
              <a:t>Water. 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562720" y="914400"/>
            <a:ext cx="304776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.  Chemical Weath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. Physical Weath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. Both types of weathe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648320" y="2438280"/>
            <a:ext cx="457200" cy="3812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4876920" y="2895480"/>
            <a:ext cx="380880" cy="3812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666880" y="3276720"/>
            <a:ext cx="381240" cy="304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3886200" y="3657600"/>
            <a:ext cx="30492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819520" y="4038480"/>
            <a:ext cx="45720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2362320" y="4876920"/>
            <a:ext cx="380880" cy="304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ro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rosion – When rock and soil are moved from one place to another by natural for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he agents of Erosion 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rain water runoff, streams, rivers, groundwater, and wav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Glaci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ravit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 landslid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dslides, avalanches etc.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Content Placeholder 6" descr="P4130069"/>
          <p:cNvPicPr/>
          <p:nvPr/>
        </p:nvPicPr>
        <p:blipFill>
          <a:blip r:embed="rId1"/>
          <a:stretch/>
        </p:blipFill>
        <p:spPr>
          <a:xfrm>
            <a:off x="5486400" y="3505320"/>
            <a:ext cx="330192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edimen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533412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Verdana"/>
              </a:rPr>
              <a:t>Sediment – The material that is moved by eros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diment is made up of small, solid particles of rocks or organism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0" descr="MPj02275640000[1]"/>
          <p:cNvPicPr/>
          <p:nvPr/>
        </p:nvPicPr>
        <p:blipFill>
          <a:blip r:embed="rId1"/>
          <a:stretch/>
        </p:blipFill>
        <p:spPr>
          <a:xfrm>
            <a:off x="5638680" y="685800"/>
            <a:ext cx="283536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posi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position – When the sediment being carried is dropped (or deposited) in a new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sitions can create new landforms like beaches and sand du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j0289385"/>
          <p:cNvPicPr/>
          <p:nvPr/>
        </p:nvPicPr>
        <p:blipFill>
          <a:blip r:embed="rId1"/>
          <a:stretch/>
        </p:blipFill>
        <p:spPr>
          <a:xfrm>
            <a:off x="914400" y="3886200"/>
            <a:ext cx="701028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Review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33520" y="1905120"/>
            <a:ext cx="274320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oose one of the following for each examp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.) Ero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.) Deposi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7760" y="1600200"/>
            <a:ext cx="563868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river carrying sand.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opping sediment in a new location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glacier picking up a rock in it’s path.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beach is formed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a sand dune is created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sediment is moved. 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nd being carried by the wind in a sandstorm. B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7315200" y="1676520"/>
            <a:ext cx="380880" cy="304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105520" y="2438280"/>
            <a:ext cx="45720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5181480" y="3200400"/>
            <a:ext cx="38124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6858000" y="3581280"/>
            <a:ext cx="380880" cy="3812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581280" y="4343400"/>
            <a:ext cx="38124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7848720" y="4724280"/>
            <a:ext cx="30456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7238880" y="5486400"/>
            <a:ext cx="304920" cy="30492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eather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Weathering is the breakdown of rock at the Earth’s surf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of these changes happen quickly and some happen slow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2 types of weather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al and Chem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Content Placeholder 6" descr="weathering.jpg"/>
          <p:cNvPicPr/>
          <p:nvPr/>
        </p:nvPicPr>
        <p:blipFill>
          <a:blip r:embed="rId1"/>
          <a:stretch/>
        </p:blipFill>
        <p:spPr>
          <a:xfrm>
            <a:off x="5486400" y="3505320"/>
            <a:ext cx="2895480" cy="238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Physical Weather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hysical Weathering – rock is broken down into smaller pieces without chemical cha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an be caused by freezing and thawing, release of pressure, growth of plants, abrasion and actions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(includ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Content Placeholder 8" descr="physicalweathering1.jpg"/>
          <p:cNvPicPr/>
          <p:nvPr/>
        </p:nvPicPr>
        <p:blipFill>
          <a:blip r:embed="rId1"/>
          <a:stretch/>
        </p:blipFill>
        <p:spPr>
          <a:xfrm>
            <a:off x="4952880" y="4267080"/>
            <a:ext cx="3276720" cy="245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reezing and Thaw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267440" cy="3124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ater seeps into a crack in a rock then it freezes and expands. This pressure of the water expanding causes the crack to become lar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0520" y="44193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is is called ice wedg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Content Placeholder 8" descr="physicalweathering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9444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lant Growth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oots of trees and other plants enter into cracks of rocks. As the plants get bigger, so do the roots. The growing roots force the cracks further apar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Content Placeholder 6" descr="physicalroot.jpeg"/>
          <p:cNvPicPr/>
          <p:nvPr/>
        </p:nvPicPr>
        <p:blipFill>
          <a:blip r:embed="rId1"/>
          <a:stretch/>
        </p:blipFill>
        <p:spPr>
          <a:xfrm>
            <a:off x="5334120" y="6858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Abra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brasion is the grinding away o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ock by other rock partic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Content Placeholder 3" descr="00108g"/>
          <p:cNvPicPr/>
          <p:nvPr/>
        </p:nvPicPr>
        <p:blipFill>
          <a:blip r:embed="rId1"/>
          <a:stretch/>
        </p:blipFill>
        <p:spPr>
          <a:xfrm>
            <a:off x="4724280" y="533520"/>
            <a:ext cx="3581640" cy="526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hemical Weather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456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hemical weathering is the processes of breaking down rock through chemical cha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 things that cause chemical weathering: water, oxygen, carbon dioxide, living     organisms and acid rai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hemical weathering occurs more rapidly in warm wet clim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Picture 4" descr="MPj03876970000[1]"/>
          <p:cNvPicPr/>
          <p:nvPr/>
        </p:nvPicPr>
        <p:blipFill>
          <a:blip r:embed="rId1"/>
          <a:stretch/>
        </p:blipFill>
        <p:spPr>
          <a:xfrm>
            <a:off x="6095880" y="2590920"/>
            <a:ext cx="2514600" cy="229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emical Chang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hemical Weathering causes the rock to experience a chemical chang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hanges its makeu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iving Organisms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t roots produce weak acids to dissolve rock around the ro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cid Rain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burning of fossil fu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xygen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uses oxidation (rust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ater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solves rocks ov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Content Placeholder 6" descr="chemwea1.jpg"/>
          <p:cNvPicPr/>
          <p:nvPr/>
        </p:nvPicPr>
        <p:blipFill>
          <a:blip r:embed="rId1"/>
          <a:stretch/>
        </p:blipFill>
        <p:spPr>
          <a:xfrm>
            <a:off x="6324480" y="4191120"/>
            <a:ext cx="2362320" cy="2309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abrasion 1"/>
          <p:cNvPicPr/>
          <p:nvPr/>
        </p:nvPicPr>
        <p:blipFill>
          <a:blip r:embed="rId1"/>
          <a:stretch/>
        </p:blipFill>
        <p:spPr>
          <a:xfrm>
            <a:off x="0" y="0"/>
            <a:ext cx="4800600" cy="3184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wind"/>
          <p:cNvPicPr/>
          <p:nvPr/>
        </p:nvPicPr>
        <p:blipFill>
          <a:blip r:embed="rId2"/>
          <a:stretch/>
        </p:blipFill>
        <p:spPr>
          <a:xfrm>
            <a:off x="0" y="3800520"/>
            <a:ext cx="4572000" cy="3057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arbonation"/>
          <p:cNvPicPr/>
          <p:nvPr/>
        </p:nvPicPr>
        <p:blipFill>
          <a:blip r:embed="rId3"/>
          <a:stretch/>
        </p:blipFill>
        <p:spPr>
          <a:xfrm>
            <a:off x="5562720" y="0"/>
            <a:ext cx="3292200" cy="3886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oxidation 1"/>
          <p:cNvPicPr/>
          <p:nvPr/>
        </p:nvPicPr>
        <p:blipFill>
          <a:blip r:embed="rId4"/>
          <a:stretch/>
        </p:blipFill>
        <p:spPr>
          <a:xfrm>
            <a:off x="4648320" y="4175280"/>
            <a:ext cx="4038480" cy="2682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9880" y="457200"/>
            <a:ext cx="3200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CID RA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3276720" y="5410080"/>
            <a:ext cx="32004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XID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20:33:59Z</dcterms:created>
  <dc:creator>arnolda</dc:creator>
  <dc:description/>
  <dc:language>en-US</dc:language>
  <cp:lastModifiedBy>Falcon School District 49</cp:lastModifiedBy>
  <dcterms:modified xsi:type="dcterms:W3CDTF">2011-04-11T19:42:07Z</dcterms:modified>
  <cp:revision>82</cp:revision>
  <dc:subject/>
  <dc:title>Weathering, Erosion, and Deposition</dc:title>
</cp:coreProperties>
</file>